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F7B-9A9A-4B9A-8602-4A8E8F64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160-5403-4622-A9D4-BF288032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99B-9117-4659-9D34-0DCEBB39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05B-E51D-4521-B6E8-F8353AE2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A25D-460F-46B6-82E0-E754078D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21BF-3CC0-41AB-AC3C-3B6BBF77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951-F0B2-45A7-8DFD-E3C4AE4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AFC-D9DF-451D-A4ED-F13AC04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01FE-CAFF-4821-B2F7-7C0F3EF0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355-0E34-4BA0-9A94-C934D987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EE90-D547-47F4-9045-797D3B9D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245-0221-4AAF-8456-8B9B889D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88B-4E2C-4D00-8A4B-903696A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6EB-912B-4071-B2BF-5815432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367-344A-4579-8C67-8A8DC3C2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92A6-F83D-4DB8-AE06-68532E6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14A7-D0F8-474A-993F-089EBA63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EB2-5B4C-436F-9141-79CA632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86F-F2AA-4B68-9496-C89EE6D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798-C727-465C-B19C-C1792573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121-BD1E-43C1-AD4A-FEC90471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023-C864-47BC-AF23-59427E2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3D5-5082-4947-A0EA-EEEAA1C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BD8-AD32-48C2-9EF6-0FFC8FC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6EA-CFCB-4EB6-94DD-990D9B64876B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26A6-7212-44BA-B940-5A46BACC56D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Readying Instructional Environmen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Setting Up the Interactive Whiteboard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onnecting a "SMARTboard" (a brand of interactive white boards) to a lap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Connect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The  cord that extends from the board should be inserted into a USB port in your laptop.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Connect the projector with a VGA/RGB cable to the laptop (usually has a blue port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Activate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1- Start up your lap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This should activate a green light on the board indicating that the “Smartboard” is configured and a connection was received.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Project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Power on your projector. Image should appear on the board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If the image doesn't immediately project, you may need to put your system in presentation mode which can vary from device to devic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sues that were encountere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Red ligh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rrupted scree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jector malfunc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ccidental disconnection of boar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ther</a:t>
            </a: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et up an interactive whiteboard to my laptop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materials that are needed to accomplish full functioning of the interactive whiteboard's capabilities 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ave you ever seen a teacher struggle with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s an iSquad member, you should be able to set it up and maximize functioning capacity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re are many neat functions that you can do with the board and all its tools, use them!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is session, you will learn how to ensure successful setup and use of interactive whiteboa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learn how to connect, activate and project an interactive whiteboar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atch as I take you through the steps of a complete setup of a “SMARTboard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dicate in which order you would use the following equip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ower Cabl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GA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B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RCA to audio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effects would it have if a particular piece was left ou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quad members, today we will set up the interactive whiteboard to a laptop, adjust  and calibrate the image, connect the speakers to the laptop, then shut down and disconnect the 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1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Power up laptop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2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Find the cord that extends from the interactive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hite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board and connect it to your laptop’s USB port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3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onnect your projector to your laptop with a VGA cable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4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onnect RCA audio cable to your laptop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5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Power on the projector. (If image does not appear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hange LCD mod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6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Adjust Image (situate cart, lift projector tray up or down,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make keystone adjustments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7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alibrate (SMARTboard tools </a:t>
            </a:r>
            <a:r>
              <a:rPr b="0" lang="en-US" sz="2000" spc="-1" strike="noStrike">
                <a:solidFill>
                  <a:srgbClr val="21216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control panel</a:t>
            </a:r>
            <a:r>
              <a:rPr b="0" lang="en-US" sz="2000" spc="-1" strike="noStrike">
                <a:solidFill>
                  <a:srgbClr val="21216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Orient or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holding down 2 buttons on board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8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Disconnect all cables and turn power off on the projector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3T00:09:20Z</dcterms:modified>
  <cp:revision>6</cp:revision>
  <dc:subject/>
  <dc:title>Workshop Title</dc:title>
</cp:coreProperties>
</file>